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231E-9448-4410-ADCA-A33F7EA4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33B3-0167-46EB-A663-DD330F166D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BA4A-401B-4CE2-9830-0B3F63BA49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DC85-5AF3-4393-BF2B-E8AF531ADF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A412-17B6-46BD-B5E9-31081224FB3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A309-CD3C-40C8-80A0-82F25CA857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BF33-3CCE-435D-9904-3179CFCE7D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F101-2601-461E-861E-30DC99BAE63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945-8837-4DBD-8D0D-AD05C0DC72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690E-49EA-4B75-AA4C-6E987C5AEF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6955-15BB-41B2-89DC-4AB1C8B8D1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A4D0-069A-40F0-B7E2-38BEE17ECE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7CB7-F0C8-4E15-95DD-10D5F9307D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7C2A-5E36-41CD-B345-0A7F211D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B271-443A-491B-A474-8B260D9D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6CE6-A989-4754-973F-3D41A478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1E84B-4274-40CF-8A88-968CA4A5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C596-6218-4515-8141-BA1F8EB6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6A56-AAAA-4084-9F3D-CCCE1663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EF94-B6F2-4C69-BABE-4A88D20A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4D22-DE5B-47F3-A8D1-9917AC8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7C2C-6B46-478B-9963-A6CA3BE3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8F29-A016-4E18-9BA0-8B64DDE9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839C-DBBA-495C-96D6-25934FB4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E71B-E22E-413C-A537-1F31AC7B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58A6-F654-4544-9ED1-F262CFA4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C8A6-BE96-47CF-9F78-BB0271B4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9BBE-7E60-475E-B5E7-82357E59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D6AE-3922-4440-B8AB-3D8804CA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3215-76CC-4C70-BF94-C0EA589B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7E58-3C3C-488E-B3F1-E5CC2D05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73F3-C0B8-4A06-BAC0-F13F094A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825E-58E3-4DA0-AB71-2AF215E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888F-D732-47BD-92D0-F2D1AF51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2079-609D-4E85-BBD9-3C820F50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C15C-E474-4415-9980-D64669E8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C223-720C-4388-8CC1-27042F22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AF9B-70BA-4943-9815-ABFC30AADF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DE83-BB99-4F38-807B-C2EB728867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geology.com/county-map/ohio.s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geology.com/county-map/indiana.s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eology.com/county-map/pennsylvania.s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eology.com/state-map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ialect Map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04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nnsylvania Dutch Reg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clickable USA map"/>
          <p:cNvPicPr/>
          <p:nvPr/>
        </p:nvPicPr>
        <p:blipFill>
          <a:blip r:embed="rId1"/>
          <a:stretch/>
        </p:blipFill>
        <p:spPr>
          <a:xfrm>
            <a:off x="3505320" y="29718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ng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nnsylvania Dutc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by Ron Ec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ung by Twila Pow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5" descr="chester_Small"/>
          <p:cNvPicPr/>
          <p:nvPr/>
        </p:nvPicPr>
        <p:blipFill>
          <a:blip r:embed="rId1"/>
          <a:stretch/>
        </p:blipFill>
        <p:spPr>
          <a:xfrm>
            <a:off x="2590920" y="30481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idesh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imo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ww.animoto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56689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bliograph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imoto productions. (2009). Retrieve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17, 2009, from http://animoto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cker, R. (2007). Pennsylvania Dutch. Retrieve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17, 2009, from http://www.ronaldeck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/dutch.ht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ce, G. Amish photography. (n.d). Retrieved 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17, 2009, from http://www.afterim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llery.com/ticeamish.ht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minently Spoken in Regions of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rtheast Oh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l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joi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4" descr="rule"/>
          <p:cNvPicPr/>
          <p:nvPr/>
        </p:nvPicPr>
        <p:blipFill>
          <a:blip r:embed="rId1"/>
          <a:stretch/>
        </p:blipFill>
        <p:spPr>
          <a:xfrm>
            <a:off x="1155600" y="1603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Ohio county m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1309680"/>
            <a:ext cx="5562720" cy="554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rule"/>
          <p:cNvPicPr/>
          <p:nvPr/>
        </p:nvPicPr>
        <p:blipFill>
          <a:blip r:embed="rId4"/>
          <a:stretch/>
        </p:blipFill>
        <p:spPr>
          <a:xfrm>
            <a:off x="155520" y="46080"/>
            <a:ext cx="972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minently Spoken in Regions of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rtheast India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khar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Surroun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9" descr="rule"/>
          <p:cNvPicPr/>
          <p:nvPr/>
        </p:nvPicPr>
        <p:blipFill>
          <a:blip r:embed="rId1"/>
          <a:stretch/>
        </p:blipFill>
        <p:spPr>
          <a:xfrm>
            <a:off x="1155600" y="1603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Indiana county m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1371600"/>
            <a:ext cx="36385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minently Spoken in Regions of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caster County in Eastern Pennsylva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6" descr="Pennsylvania county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438280"/>
            <a:ext cx="7143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hysical Features of the Amish Count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theastern Oh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ins, Mountains, Lakes, Str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theastern Indi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lls, Lakes, Str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tern Pennsylva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untains, Cliffs, Valleys, Streams, Rapids, Lakes, Isla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bliograph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map collections. (n.d.). Retrieved June 16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09, from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geology.com/state-map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HomeTownLocator. (n.d.). Retrieved Jun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6, 2009, fro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hometownlocator.com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tting Descrip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lideshow of Photographs from Lancaster County, Pennsylva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otographs by George T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ictures were taken from the book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ields of Peace: A Pennsylvania German Alb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cription of Photogra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ve Mennonite children on a bicycle, 196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Amish girls, 196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ish boy, 19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ish boy walking fence, 196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n and covered bridge, 196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ggy and farmhouse with windmill, 19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ther and daughter in buggy, 196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se and buggy in farmyard, 19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se and buggy, 196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ld Amish men, 196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01:01:41Z</dcterms:created>
  <dc:creator>Mooreland Heights Elementary School </dc:creator>
  <dc:description/>
  <dc:language>en-US</dc:language>
  <cp:lastModifiedBy>MComer</cp:lastModifiedBy>
  <dcterms:modified xsi:type="dcterms:W3CDTF">2011-06-21T16:10:45Z</dcterms:modified>
  <cp:revision>6</cp:revision>
  <dc:subject/>
  <dc:title>Dialect Map </dc:title>
</cp:coreProperties>
</file>